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800" y="458712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0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4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8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86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4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2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800" y="627120"/>
            <a:ext cx="86025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26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0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4800"/>
            <a:ext cx="86072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62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TS: Microarray Time Series and Network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57720" y="6626160"/>
            <a:ext cx="53276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24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act:   korbinian.strimmer@lmu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412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 site: http://www.statistik.lmu.de/~strimmer/genet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776240" y="6651720"/>
            <a:ext cx="1397160" cy="62208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14200" y="6694560"/>
            <a:ext cx="1490760" cy="57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375080" y="757080"/>
            <a:ext cx="5577120" cy="443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4665600" y="4662360"/>
            <a:ext cx="2165400" cy="1930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7018200" y="4738680"/>
            <a:ext cx="2970360" cy="207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5000" y="890280"/>
            <a:ext cx="51102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neT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ocuses on the analysis of geno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 series data (e.g. periodicity testing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the inference of large-scale gen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gene relevance networ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packages need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cfdr, graph, Rgraphviz (opt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ferences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ichert et al. Bioinformatics (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chäfer and Strimmer. Bioinformatics (20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