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9DDD-AA1B-40BA-9785-260A65510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F9C9-2B1A-4F1A-8786-B8AC62EB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ADFE-F4DC-4493-BA25-A5F3E01FF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3027-68AB-44F1-BF42-67D6C1A6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00CE-E97E-4094-A181-50E37028E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6AE0-3DEC-4120-8B9F-2DEEE7E7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6AE99-413A-481D-9D8A-E002F770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AAFB0-66B6-432C-A4DE-5DFE71785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20CF9-F352-4AB8-9FFD-E97B9C04B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03D9C-3BE2-4545-A74D-B640CF35C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B6CA-5020-4612-BD83-1B3E47BF5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4E97-401D-4369-97A4-1D5B75260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4633B-6AB1-4FA4-8209-60F74E40C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3AED-08F4-433A-B6E1-3C4D2BAE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5E4A9-E57A-48BE-8C67-E5F20C2C5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93FA0-FD33-4483-B646-0933724E4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0127F-5386-47F1-8603-9AD58952C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9D85C-9B65-47F6-9DC1-21CBA8553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990D-7976-4BE2-89F1-DA4D60D1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5FB-24DC-4E52-B5EE-DC131742E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68D38-A6E9-4044-93C4-B83709341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E201-CB89-4A22-9117-9DD08563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FDCB-2683-402F-A6A2-627C3BD90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F9AB-6690-4305-B4E9-C519E425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B8F7-DD1B-464E-A0D6-6DF0569447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F74B-AA28-47B0-B145-84ADAD2BBC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096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he R </a:t>
            </a:r>
            <a:r>
              <a:rPr b="1" lang="en-US" sz="4800" spc="-1" strike="noStrike">
                <a:solidFill>
                  <a:srgbClr val="ffcc66"/>
                </a:solidFill>
                <a:latin typeface="URWPalladioL-Bold"/>
              </a:rPr>
              <a:t>genetics</a:t>
            </a: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 package: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URWPalladioL-Bold"/>
              </a:rPr>
              <a:t>t</a:t>
            </a:r>
            <a:r>
              <a:rPr b="1" lang="en-US" sz="4000" spc="-1" strike="noStrike">
                <a:solidFill>
                  <a:srgbClr val="ffcc66"/>
                </a:solidFill>
                <a:latin typeface="URWPalladioL-Bold"/>
              </a:rPr>
              <a:t>ools for using genetic data in statistical  model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regory R. Warn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n-Clinical Statistics, Grot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C59D-F61B-4696-BCCC-8017F52255E7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ummary’ displ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&gt; summary(g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llel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      8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      6       0.4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2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notype Frequenc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ount Propor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A     2       0.2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A/C     4       0.57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C/C     1       0.1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      1         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62E6-20BD-49FC-9196-CF766276D5B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: Extracting allel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enotype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enotype.v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lele Coun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.count(genotype.var, “A”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resence or absence of a specific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arrier(genotype.var,'A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pecific (in order) allel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, 1) # first alle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(genotype.var)    # both alle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BA6B-2508-49F6-B83E-C3C85AEA97C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Example Sess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436A-EF92-4DD2-9C78-AE85AFEC032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Future Possibiliti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ort to S-Pl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irwise disequlibriu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plotype estim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ML version of output (for PG database)  Y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WE Confidence intervals for individual allele pairs  (Desirable-but not high ne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Plot functions (automate common plots/tabl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?What else (demographics into analyses in  PG databas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BF47-D4B9-4AB0-B593-302D461A0F9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ject Goa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 Detai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nctions Includ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e Examp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xample Ses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uture Possibil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5890-7CC5-4E2D-9FA3-D7CA5ADE1B7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Project Goa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import and manipulate genotype variables: Get rid of string manipulation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ke it easy to use genotype variables in statistical model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vide estimates/test for Hardy-Weinburg Equilibri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3F1-15B3-4920-822B-54471BCA76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Design Detail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sign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enotypes are stored in ‘Factor’ objects, with factor levels formatted as ‘A/C’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translation table is provided to quickly extract individual alle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equenc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stored in data fram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an be efficiently manipulated (space &amp; tim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8E75-4CEA-4BEB-B5AE-400ACC951B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Functions included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mporting &amp; Manipulating Genotyp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genotype(), haplotype(), as.genotype(), as.haplotype(), allele.names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Genotype Inform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ummary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nnotating Genoty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ocus(), gene(), marker(), 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Using Genotypes in Mode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carrier(), allele(), homozygote(), heterozygote(), allele.coun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stimate/Test Hardy-Weinberg Equilibri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iseq(), diseq.ci(), HWE.test(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HWE.exact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ample-size tool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EW: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Gregorius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C475-0BFD-4FB6-BCE9-CBA559912FF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character separator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1 &lt;- genotype( c('A/A','A/C','C/C','C/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NA,'A/A','A/C','A/C')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3 &lt;- genotype( c('A A','A C','C C','C A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','A A','A C','A C')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p=' ', remove.spaces=F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259-6117-4F61-929C-848F76C8715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single vector with a positional separa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2 &lt;- genotype( c('AA','AC','CC','CA',''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'AA','AC','AC'), sep=1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wo separate vecto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4 &lt;- genotype(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A','C','C','','A','A','A'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c('A','C','C','A','','A','C','C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FE45-2DCB-4FED-B68D-34A052C7FC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reating Genotype Object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dataframe or matrix with two colum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m &lt;- cbind(        c('A','A','C','C','','A','A','A'),          c('A','C','C','A','','A','C','C') 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,1] [,2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,] "A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2,] "A"  "C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4,] "C"  "A"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g5 &lt;- genotype( gm 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E50-3776-4850-A2AC-47A9BCC5F93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Simple Examples : 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Displaying Genotype Information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‘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aw’ displ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&gt; g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[1] "A/A" "A/C" "C/C" "A/C" NA    "A/A" "A/C" "A/C"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Alleles: A C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tatGen Working Group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5F85-F1C6-4070-A91A-53A7F9AE2E9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02-12-1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0T21:51:28Z</dcterms:created>
  <dc:creator>Gregory R. Warnes</dc:creator>
  <dc:description/>
  <dc:language>en-US</dc:language>
  <cp:lastModifiedBy>Gregory R. Warnes</cp:lastModifiedBy>
  <dcterms:modified xsi:type="dcterms:W3CDTF">2002-12-11T17:28:00Z</dcterms:modified>
  <cp:revision>4</cp:revision>
  <dc:subject/>
  <dc:title>The R genetics package: tools for using genetic data in statistical  models</dc:title>
</cp:coreProperties>
</file>